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A31-ECE0-4AEA-AF04-A26C5CDC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465-70C3-4C2E-9369-20FAA351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D63-460D-46A8-A655-52A90517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530-42A2-4744-8D7B-E12095C3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5D6-7E18-484F-836C-9CDEB262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5AF-319A-4FFC-AAD2-4495FACB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CD8-D67E-4D17-B3B5-B33B7326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3E5-5F9B-4CF4-ACC8-D86066B4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2C3-40E8-46BF-8D62-FB6750AF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0AA-DAD3-432D-A5E7-5738F8D2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9EE-5A67-4754-8D1C-D251E1A2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EA9-D30F-46CF-9B53-AF5C56B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E93C-C303-476A-9B7D-4A97F9CF4C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935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Challenge 1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ill in the gaps with the right part of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voir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+ 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past participle. </a:t>
            </a:r>
            <a:r>
              <a:rPr b="1" lang="en-GB" sz="2400" spc="-1" strike="noStrike">
                <a:solidFill>
                  <a:srgbClr val="cc0000"/>
                </a:solidFill>
                <a:latin typeface="Tahoma"/>
              </a:rPr>
              <a:t>* = irregular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acques Prevert Paris, 1955 Art Print by Robert Doisneau"/>
          <p:cNvPicPr/>
          <p:nvPr/>
        </p:nvPicPr>
        <p:blipFill>
          <a:blip r:embed="rId3"/>
          <a:stretch/>
        </p:blipFill>
        <p:spPr>
          <a:xfrm>
            <a:off x="7583400" y="73080"/>
            <a:ext cx="1471680" cy="184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2531880" y="35280"/>
            <a:ext cx="406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Déjeuner du ma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Jacques Pré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-181080" y="1052640"/>
            <a:ext cx="745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ff"/>
                </a:solidFill>
                <a:latin typeface="Tahoma"/>
              </a:rPr>
              <a:t>This is a very famous poem by a well-known French poet.</a:t>
            </a:r>
            <a:r>
              <a:rPr b="1" lang="en-GB" sz="2400" spc="-1" strike="noStrike">
                <a:solidFill>
                  <a:srgbClr val="333399"/>
                </a:solidFill>
                <a:latin typeface="Tahoma"/>
              </a:rPr>
              <a:t>   The title in English means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924280"/>
            <a:ext cx="914400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hallenge 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Complete the crossword, using the poem to help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you find the answers to the c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3860640"/>
            <a:ext cx="9144000" cy="1224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Challenge 3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5" action="ppaction://hlinksldjump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Use the crossword clues, the irregular verbs shee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and your brain to work out what is happening i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the poem. Make notes next to the poem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084640"/>
            <a:ext cx="9144000" cy="863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6" action="ppaction://hlinksldjump"/>
              </a:rPr>
              <a:t>Challenge 4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ahoma"/>
                <a:hlinkClick r:id="rId7" action="ppaction://hlinksldjump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actise reading the poem out with a good French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accent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nk about common sound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5950080"/>
            <a:ext cx="914400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Challenge 5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oduce an illustrated version of the poem, with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pictures to show all the things that are hap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Déjeuner du matin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e caf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a tass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e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a tasse de caf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e sucr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e café au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vec la petite cuill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tourn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bu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e café au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Et 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reposé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a tass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parler</a:t>
            </a:r>
            <a:br>
              <a:rPr sz="2100"/>
            </a:b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allum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Une cigarett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fait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des ronds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vec la fumé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1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 les cendres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e cendri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parl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regar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716360" y="44280"/>
            <a:ext cx="4427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0" y="40464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l s’est levé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n chapeau sur sa têt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a m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n manteau de plui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ce qu’il pleuva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 il est part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s la plui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ans une paro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ans me reg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 moi j’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ai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pri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 tête dans ma mai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t j’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ai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Tahoma"/>
              </a:rPr>
              <a:t>pleuré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524720" y="4869000"/>
            <a:ext cx="147168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Déjeuner du matin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mis le caf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a tass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mis le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a tasse de caf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mis le sucr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e café au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vec la petite cuill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tourn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bu le café au lait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Et il a reposé la tass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parler</a:t>
            </a:r>
            <a:br>
              <a:rPr sz="2100"/>
            </a:b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allumé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Une cigarett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fait des ronds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vec la fumée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l a mis les cendres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Dans le cendri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parler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ans me regar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716360" y="44280"/>
            <a:ext cx="442764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Tahoma"/>
              </a:rPr>
              <a:t>Breakfast in the mo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put the coff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In the c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put the mil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In the cup of coff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put the sug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In the milky coff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With the little sp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stirr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drank the milky coffe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And he put the cup dow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Without speaking to 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l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A cigaret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made r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With the smo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He put the ash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In the ashtr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Without speaking to 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0000"/>
                </a:solidFill>
                <a:latin typeface="Tahoma"/>
              </a:rPr>
              <a:t>Without looking at 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524720" y="4005360"/>
            <a:ext cx="147168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370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s’est levé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a m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n chapeau sur sa têt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a m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n manteau de plui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ce qu’il pleuvait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 il est part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s la plui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ns une parol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ans me reg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 moi j’ai pr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 tête dans ma ma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t j’ai pleur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1440" y="404640"/>
            <a:ext cx="442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e go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e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is hat on his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e 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His rain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Because it was 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nd 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n the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ithout a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ithout looking a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nd me, I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My head in my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nd I cr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754760" y="5157720"/>
            <a:ext cx="1241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ahoma"/>
              </a:rPr>
              <a:t>Things to think ab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ahoma"/>
              </a:rPr>
              <a:t>5 minutes discussion in groups of 2 or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o is the narrator (the person telling the story) in the po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e they male or fem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relationship are they to the other per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has happened before the events in the po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do you think might happen afterw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658280" y="2060640"/>
            <a:ext cx="12650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Common sound patterns in the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* Remember – the last letter in a word is usually si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an/en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  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on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6600ff"/>
                </a:solidFill>
                <a:latin typeface="Tahoma"/>
              </a:rPr>
              <a:t>(if you say it holding your nos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ui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w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er/é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 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au/eau  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eu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         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oi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ain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         </a:t>
            </a:r>
            <a:r>
              <a:rPr b="0" i="1" lang="en-GB" sz="1800" spc="-1" strike="noStrike">
                <a:solidFill>
                  <a:srgbClr val="6600ff"/>
                </a:solidFill>
                <a:latin typeface="Tahoma"/>
              </a:rPr>
              <a:t>sounds like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en-GB" sz="2800" spc="-1" strike="noStrike">
                <a:solidFill>
                  <a:srgbClr val="6600ff"/>
                </a:solidFill>
                <a:latin typeface="Tahoma"/>
              </a:rPr>
              <a:t>an</a:t>
            </a:r>
            <a:r>
              <a:rPr b="0" lang="en-GB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6600ff"/>
                </a:solidFill>
                <a:latin typeface="Tahoma"/>
              </a:rPr>
              <a:t>(if you say it holding your nos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524720" y="2781360"/>
            <a:ext cx="1471680" cy="1843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0" y="609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w we’re going to go round the class – everyone read on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Arial"/>
              </a:rPr>
              <a:t>Challen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You’re going to produce an illustrated version of </a:t>
            </a:r>
            <a:r>
              <a:rPr b="1" i="1" lang="en-GB" sz="3200" spc="-1" strike="noStrike">
                <a:solidFill>
                  <a:srgbClr val="009900"/>
                </a:solidFill>
                <a:latin typeface="Georgia"/>
                <a:ea typeface="Times New Roman"/>
              </a:rPr>
              <a:t>Déjeuner du matin.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You can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out the poem on A4 paper with pictur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ound it to show all the things that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A4, set out the poem like a cartoon s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acques Prevert Paris, 1955 Art Print by Robert Doisneau"/>
          <p:cNvPicPr/>
          <p:nvPr/>
        </p:nvPicPr>
        <p:blipFill>
          <a:blip r:embed="rId1"/>
          <a:stretch/>
        </p:blipFill>
        <p:spPr>
          <a:xfrm>
            <a:off x="7885080" y="3645000"/>
            <a:ext cx="1069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8:18:07Z</dcterms:created>
  <dc:creator>Ad</dc:creator>
  <dc:description/>
  <dc:language>en-US</dc:language>
  <cp:lastModifiedBy>scollett</cp:lastModifiedBy>
  <dcterms:modified xsi:type="dcterms:W3CDTF">2010-06-25T04:01:10Z</dcterms:modified>
  <cp:revision>10</cp:revision>
  <dc:subject/>
  <dc:title>Slide 1</dc:title>
</cp:coreProperties>
</file>